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7BE-017D-4104-96FF-95D60CB7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1D2-33AE-4B14-A33A-A7F986A4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4FD-7445-4A99-A8B4-45162AA6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DC0-7A4C-4A3F-8295-A5AD2A35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355-AECB-4FB9-90B1-6A750DB7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097-F792-4375-BE47-F641B500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19D-745D-49B9-8269-3E2046D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BF3-F61E-44B0-BD0A-30E0D410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8C1-2F87-4604-A359-01126DB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BA4-3D4D-446D-8272-C970A8D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984-E0EA-4214-A976-6B27904B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B26-ADC6-4549-94A1-016B8EF4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FBCF-92FF-433D-893B-69B87007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14400" y="1219320"/>
          <a:ext cx="746748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4674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6:12:16Z</dcterms:created>
  <dc:creator>cai3</dc:creator>
  <dc:description/>
  <dc:language>en-US</dc:language>
  <cp:lastModifiedBy>cai3</cp:lastModifiedBy>
  <dcterms:modified xsi:type="dcterms:W3CDTF">2009-09-29T16:13:06Z</dcterms:modified>
  <cp:revision>1</cp:revision>
  <dc:subject/>
  <dc:title>Slide 1</dc:title>
</cp:coreProperties>
</file>